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6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4B1E-C0ED-4F50-A69A-A37DD74B3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8064-AAA6-4F78-94B2-6E0955387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4FA-5209-42DF-B7F0-E8E904CF0E4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092D-DAB5-473E-AD7A-723AA84A977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7FD3-BE62-40A1-AED7-483135624F7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1771-04BD-45A6-98EB-D3B341F0C7F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E5CD-E768-45DC-9980-6A7A9DBFE13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90C-153F-4DA1-ABF5-79FD4813836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3670-C419-43F2-843B-7D78715EDDA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0F25-2DE2-49CF-AE58-7A31B76953E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B1F9-A6C1-41C3-8DD3-8FC5A63D9AC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4777-A5E9-4A32-96EA-02645B97B36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E437-CDB2-46E7-93A3-CB3E57E4922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8594-1A44-40D9-85E7-F965E3F7EB3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6E36-9018-4ED8-A2F8-D3AF1A5189B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3A61-6767-459D-9C6F-E2C8B1D9296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4CFF-4A88-4599-BEFA-8B87DFA290F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754-32FE-4FB9-9925-6E9764798CC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814A-3F95-4815-9F2D-22A253AEB5A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9546-CC09-4878-BEE9-2FC8226FDA4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F185-6CFB-4B48-AD67-E0A82639395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22B-E527-4AE4-BB6D-83AAC088F69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1711-927F-4BB7-A4D6-049A59BE28E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32E9-408F-4548-A4B1-59C88CBE27F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203F-0743-4889-A32C-E3BDCD9CB0C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F76-1041-4C10-8B5C-715937906EC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AEA6-20C0-463B-9E49-FF118825597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691A-7503-4984-9AE5-82D5352B2E6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64D3-32F3-4995-A635-9AB5592A3B2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7012-2653-41AF-9D38-DC6C36C5262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1C13-1167-4F2A-83C9-E377F19F272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DD2F-A2D2-4A78-85AC-D1A67B6A929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2E2E-3475-4DB5-9691-DDE1B5ABCF8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F69E-DE95-4001-934D-BDBD8EA10AD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1D37-7408-4409-B267-32F4F3B72D6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29DD-B97C-4834-BAB6-226A36B8205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ABF3-8034-454D-8C8C-57B5AD20C4B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EA0A-3DDA-4F19-9C88-9122B65038D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51E3-1247-4345-A5C6-04DA7F537B2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2F43-971D-478D-9156-39AEBF23E16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771-3058-4D17-8BC2-60F1DE8DD7A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9C63-F190-4E7E-BE7E-EDBD1A401EE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5543-2965-45EA-A3D4-700E78D0904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8A78-ACA3-4C07-81CE-FABC04E2A93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FA9D-FC51-4571-B656-EDF2CAD2DE9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7FA2-EA51-4459-896B-F9D6544CBA7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516E-231E-4CDA-BBBB-400123E1909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8741-5447-4868-B741-158AB6498EB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75CD-7143-4AB8-A667-0F8896F6183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675E-7C44-4112-83E7-A8CF3DBA95C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55BF-7452-4269-A751-C6BEB6EC905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28B-73A2-4C2B-BF0A-E32D826D8F9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4DA9-4A01-4D5A-9335-A482438ADFF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1715-63A7-4572-9365-A035DAD216A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1108-F7AD-4178-9D30-4F697B96C91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E79F-51DE-42F9-84CE-917E92AA5F7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9CA8-54F0-4E36-8A0E-8120F6EFD7C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A05C-5DC3-4CCF-8DB4-D429309A02C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8B5-92B4-4E92-B8E8-B3ADC58F519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2A1-206C-40C7-8B1E-59C1B86C4B5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D348-CB8C-44AB-9817-83CFD26B91E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07F-0907-44BD-81EE-3A3A4840AFC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CA30-17A3-44C8-B271-E7D92205556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ABCA-E2F8-43E2-BCA8-15841FA8E00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986-1A8C-46A7-ACA9-918721793E7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339E-1ECF-475A-A1AD-43106F2DD11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72C4-C484-4738-BED8-A7FF8A7B920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0FE7-6D0D-484B-8AC3-0D3019820E2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06EE-758A-404B-A1B2-AE4175F443E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E225-E336-4EFC-8E76-0BEA02F4731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5855-EBCC-4FE9-8752-FCB91AF3D35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512D-6566-425A-98D7-06E496E3F5E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ACEF-282B-41CB-B0FC-D7773E49525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D648-77C6-46BC-B5D7-0EC76D42357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BB9-C480-44D4-9EED-A69FEE695B2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23F3-327C-47AD-B352-A7D57C4585E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2AE8-B2EB-4BE9-8F93-0022B81DD9D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21A6-AE3B-4920-A7D3-EEA1677B1CF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86C3-E08A-402F-A782-3B0059859EB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F4B5-E41E-4D67-8216-2731B3BF8EF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E922-0D58-43FF-B973-C784C3C317F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8D2C-3CA6-40AF-872F-DD2BDD9D734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2723-CF95-4B41-8B91-478DEDEB304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1970-A5AC-4FB2-A183-B9AA76F8593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C172-63ED-4A33-AC57-85ACD0AFF1A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5B9B-80AA-479B-9775-771E2E75863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77A2-A840-4CF3-B73E-94AEE8241CE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4BC6-7A64-4F23-B838-66E907C1BEE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517-F993-4053-B192-94E51A4C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2CD-1F1F-4451-926F-96E06612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B7F-A931-464E-82DD-821BCFC0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F14-A885-4D5D-A638-315A9829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429C-F643-4CB9-AA32-CFF2BDBC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C335-7717-4561-9DCF-76114971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AFE6-7E98-4233-AB4F-2A549128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D0E2-4905-4CD1-AE11-DAA2F218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68CB-B7B4-40FE-9649-BDC94B3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3D12-6A23-4C69-BA9E-9A5D0832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8655-46AE-424F-A06C-52B5E63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5D3-15DD-414E-9C79-683E5D0F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C927-EED5-4F2E-9D57-B72D0F7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A067-5A7C-4969-BBB0-2F8A141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3C1B-9C0C-4B84-8A65-790CEDFB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AFAF-087C-4A5C-8079-0CB81473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EABA-CA30-41AB-A919-89E49278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ABA-BD97-4B0F-98C9-87E8E873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598-8835-42D7-BE94-3844E0AA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CF9-252A-41AD-80BB-29B9DFFF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492-2751-45BD-B6DB-63E66DF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6A1-69F0-4F7B-B878-CBF4B0CF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9FA-651D-42CA-8170-4FC703E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530-62DF-469B-90E8-C9C07C4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4162-0D2A-4A4E-B86E-D91E86A841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84C9-913C-44B6-9DA7-F94F0F5858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464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"/>
              </a:rPr>
              <a:t>Trauma Overview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1480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vid B. Reedy, M.D., FACE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tra Costa Regional Medical       Cen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ssistant Clinical Professor UCSF/SFG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038480" y="22096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XR-widened mediastin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895480" y="2075040"/>
            <a:ext cx="533412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80-90% of patients with thoracic aortic rupture die in the pre-hospital sett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ose who survive may have minimal initial symptom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XR may be first clu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surgeon who should attempt to suture a wound of the heart would lose the respect of his surgical colleagues” - Theodore Bilroth, 1882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dications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traumatic arrest with previously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unresponsive hypo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371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8580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ontraindica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thoracic injuries with no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ultiple blunt trau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vere head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CLS algorithms do NOT apply to traumatic arre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FAST Exa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5145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6880" y="18288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cused Assessment with Sonography for Trauma (FAS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imited ultrasound exam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Directed solely at identifying the presence of free intraperitoneal or pericardi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Free fluid is usually due to hemorrhag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Helps determine the need for OR, CT, or angiography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is an injury caused by a physical forc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tor vehicle colli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l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un sho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bb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ur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ssaul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ST examines four areas for free flui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3809880" y="2847960"/>
          <a:ext cx="434340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847960"/>
                    <a:ext cx="43434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9" descr="GelOnProbe"/>
          <p:cNvPicPr/>
          <p:nvPr/>
        </p:nvPicPr>
        <p:blipFill>
          <a:blip r:embed="rId1"/>
          <a:stretch/>
        </p:blipFill>
        <p:spPr>
          <a:xfrm>
            <a:off x="3048120" y="2819520"/>
            <a:ext cx="609588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15000" y="1295280"/>
            <a:ext cx="29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ow Frequency Prob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.5 - 5.0 MHz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issue Penetr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09480" y="228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uma Ultrasonography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051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hepatic and hepat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4953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601956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1" name="Picture 4" descr="03050G10z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4" name="Picture 4" descr="0305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7" name="Picture 4" descr="03080G10z"/>
          <p:cNvPicPr/>
          <p:nvPr/>
        </p:nvPicPr>
        <p:blipFill>
          <a:blip r:embed="rId1"/>
          <a:stretch/>
        </p:blipFill>
        <p:spPr>
          <a:xfrm>
            <a:off x="304812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0" name="Picture 4" descr="03080G10ZL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plen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6" name="Picture 4" descr="03325G30ZL"/>
          <p:cNvPicPr/>
          <p:nvPr/>
        </p:nvPicPr>
        <p:blipFill>
          <a:blip r:embed="rId1"/>
          <a:stretch/>
        </p:blipFill>
        <p:spPr>
          <a:xfrm>
            <a:off x="2971800" y="1676520"/>
            <a:ext cx="573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6880" y="1676160"/>
            <a:ext cx="609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9" name="Picture 4" descr="0338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2840" y="457200"/>
            <a:ext cx="6095880" cy="13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dvanced Trauma Life Suppor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merican College of Surge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vides a framework for the management of the injured pati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nded to allow the single doctor in a rural hospital to assess and manage trauma pati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lv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5" name="Picture 4" descr="03530G1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8" name="Picture 4" descr="03550G3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cardi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4" name="pericard effusion.mov" descr="Macintosh HD:Users:davidreedy:Desktop:Trauma US Video 2.1:pericard effusion.mov"/>
          <p:cNvPicPr/>
          <p:nvPr/>
        </p:nvPicPr>
        <p:blipFill>
          <a:blip r:embed="rId1"/>
          <a:stretch/>
        </p:blipFill>
        <p:spPr>
          <a:xfrm>
            <a:off x="3733920" y="2362320"/>
            <a:ext cx="4495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538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bdominal Traum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t for bowel injury, solid organ injury, or retroperitoneal injur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etection of free intraperitoneal or pericardial flui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26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19160" y="1522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42840" y="13712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nded 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nterior lung apices for pneumothorax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ung bases for pleur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91" name="Object 0"/>
          <p:cNvGraphicFramePr/>
          <p:nvPr/>
        </p:nvGraphicFramePr>
        <p:xfrm>
          <a:off x="3276720" y="2971800"/>
          <a:ext cx="3867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971800"/>
                    <a:ext cx="3867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4800600" y="3733920"/>
            <a:ext cx="763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PTX normal.mov" descr="Macintosh HD:Users:davidreedy:Desktop:Trauma US Video 2.1:PTX normal.mov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45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Origin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ebraska, 1976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lane crash in a Nebraska field changed the face of trauma care throughout the worl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dical, EMS, and Nursing groups began to collate protocols for trauma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S publishes ATLS in 1980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90560" y="114300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9" name="PTX positive.mov" descr="Macintosh HD:Users:davidreedy:Desktop:Trauma US Video 2.1:PTX positive.mov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94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                          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linician based ultrasound has changed the way trauma care is practiced and is rapidly becoming standard of car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ninvasive, straightforward, relatively short training perio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ultiple training courses exi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Focused exam, goal specific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8th Edition, 2008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0 year anniversa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st evidence” based (i.e. spinal steroid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vised pediatric guidelin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aster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Knife and Gun Club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14800" y="1904760"/>
            <a:ext cx="3581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414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819520" y="1839960"/>
            <a:ext cx="60958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irwa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Look for associated injuri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member c-sp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spiratory rat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aradoxical mo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repitu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ubcutaneous air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uscult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XR-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Tracheal deviation, hypotension, hypoxemi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11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irc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Hypotens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ypovol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rdiac tampona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cardia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rrhythmi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S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0:14:08Z</dcterms:created>
  <dc:creator>dave</dc:creator>
  <dc:description/>
  <dc:language>en-US</dc:language>
  <cp:lastModifiedBy>HCMARTINEZ</cp:lastModifiedBy>
  <dcterms:modified xsi:type="dcterms:W3CDTF">2009-08-06T19:03:16Z</dcterms:modified>
  <cp:revision>45</cp:revision>
  <dc:subject/>
  <dc:title>Trauma Overview</dc:title>
</cp:coreProperties>
</file>